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E6583-38AC-4881-93A9-6FE7A6B3F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715A2-511F-4088-A7B2-557A0E98C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729E0-8089-4FD1-AAF2-3CC7B781D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47DF7-2ED2-4332-93BD-3A81CC5F2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68E67-234E-4005-960D-ADD65132B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C1E52-C62E-4198-A6BF-01CC59E10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EE8F4-6D5A-4208-8C27-FB5709EE5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5E500-68B6-47F8-B788-0A794C312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9366A-AD95-47E9-A285-FA2032EDC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1EBCF-3C30-431F-A265-27D717FA0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82FFB-4F32-4EB7-9D5E-29CB7708F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65218-1876-4B31-BAB0-374785788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3EF3E-2BD6-4CBB-BB9C-DBF173A53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5A5D7-DC1E-4649-8622-A83496857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BC5F1-7C73-47ED-AA6D-E8EE2B8DA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2662F-CF76-4D28-A0E8-EDF02F8D3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1CC05-1CA1-4A59-876D-B99C08BFF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3B37-C3D5-4280-AC37-E3F6E59DD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A216-4CEB-432B-B6B8-42F11A56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F9201-30A6-44CA-A365-E0BCC9ADC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5C357-57E9-4169-948F-D03AD6CCF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DCC87-B14D-4FD9-8A70-D46968D38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63CFE-EC55-4104-82B1-C7A461512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DC73-77DB-4949-B18F-02123F1AA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0AA9-E786-4E9E-83D7-9EA9576EA1F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C1B0-FEB8-4AC1-AE08-FB80A4DF293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549000"/>
            <a:ext cx="6966000" cy="2057400"/>
          </a:xfrm>
          <a:prstGeom prst="rect">
            <a:avLst/>
          </a:prstGeom>
          <a:solidFill>
            <a:srgbClr val="c1605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Arial"/>
              </a:rPr>
              <a:t>     </a:t>
            </a:r>
            <a:r>
              <a:rPr b="0" lang="en-US" sz="4000" spc="-1" strike="noStrike">
                <a:solidFill>
                  <a:srgbClr val="2f1311"/>
                </a:solidFill>
                <a:latin typeface="Arial"/>
              </a:rPr>
              <a:t>Физика в сельском                                                      хозяйстве</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63640" y="4149360"/>
            <a:ext cx="5640480" cy="21589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аботу выполнила ученица 10 класса Холодова.А.С</a:t>
            </a:r>
            <a:endParaRPr b="0" lang="en-US" sz="2400" spc="-1" strike="noStrike">
              <a:solidFill>
                <a:srgbClr val="2f1311"/>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r>
              <a:rPr b="0" lang="ru-RU" sz="2400" spc="-1" strike="noStrike">
                <a:solidFill>
                  <a:srgbClr val="2f1311"/>
                </a:solidFill>
                <a:latin typeface="Arial"/>
              </a:rPr>
              <a:t>Учитель физики: Тарасова Н. А.</a:t>
            </a:r>
            <a:endParaRPr b="0" lang="en-US" sz="2400" spc="-1" strike="noStrike">
              <a:solidFill>
                <a:srgbClr val="2f1311"/>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МКОУ Новокриушанская СОШ</a:t>
            </a:r>
            <a:endParaRPr b="0" lang="en-US" sz="2400" spc="-1" strike="noStrike">
              <a:solidFill>
                <a:srgbClr val="2f1311"/>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2012 г</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fontScale="99000"/>
          </a:bodyPr>
          <a:p>
            <a:pPr marL="339480" indent="-3394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ы, наверное, не раз наблюдали, что, как только ранней весной снег осядет, станет мокрым, его бульдозером сталкивают в огромный бурт и закрывают соломой. Через некоторое время снег превращается в монолитный лед. Он хорошо сохраняется даже на следующий год. Лед заготавливают прямо на выпасах, где производится доение коров в летний период. Для чего </a:t>
            </a:r>
            <a:endParaRPr b="0" lang="en-US" sz="1600" spc="-1" strike="noStrike">
              <a:solidFill>
                <a:srgbClr val="2f1311"/>
              </a:solidFill>
              <a:latin typeface="Arial"/>
            </a:endParaRPr>
          </a:p>
          <a:p>
            <a:pPr marL="339480" indent="-3394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заготавливают лед? Дело в том, что для сохранения питательных свойств молока его сразу же после выдаивания следует, охладить до -4 -5 °С. </a:t>
            </a:r>
            <a:endParaRPr b="0" lang="en-US" sz="1600" spc="-1" strike="noStrike">
              <a:solidFill>
                <a:srgbClr val="2f1311"/>
              </a:solidFill>
              <a:latin typeface="Arial"/>
            </a:endParaRPr>
          </a:p>
        </p:txBody>
      </p:sp>
      <p:pic>
        <p:nvPicPr>
          <p:cNvPr id="196" name="" descr=""/>
          <p:cNvPicPr/>
          <p:nvPr/>
        </p:nvPicPr>
        <p:blipFill>
          <a:blip r:embed="rId3"/>
          <a:stretch/>
        </p:blipFill>
        <p:spPr>
          <a:xfrm>
            <a:off x="4032360" y="2881440"/>
            <a:ext cx="3617640" cy="193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А сколько же льда следует заготовить? Попытаемся применить свои знания к решению практической задачи. </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редположим, что требуется охладить за период выпаса молоко массой 1000 т с +35° до -4-5 °С, удельная теплота плавления льда 340 000 Дж/кг, плотность его 0,8 г/см 3 , а удельная теплоемкость молока 4200 Дж/(кг-°С). </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ешение. </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1. Какое количество теплоты выделится при охлаждении молока? </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l 000 000 кг-4200 Дж/(кг-°С) • (35°-5°) = 1,2-10 9 Дж. </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2. Сколько льда расплавится за счет выделившегося при охлаждении молока количества теплоты? 340 000 Дж/кг </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3. Каков объем льда^ </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у = 350 т:0,8 т/м 3 = 437.5м’«400 м’. Ответ: «400 м’3.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В настоящее время для охлаждения надоенного молока в большинстве хозяйств применяется танк-охладитель молока вакуумированный ТОВ-1, который охлаждает за 2,7 ч 1000 л молока от +36° до +4°С; танк ТО-2 соответственно 2000 л молока за 3,5 ч. Тот и другой охладитель потребляет электрическую мощность 10 кВт. </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Холодильные установки вырабатывают искусственный холод, который используется для охлаждения воды или другой жидкости, циркулирующей в молочных охладителях. </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В холодильных установках холодоносителем служит фреон, который кипит при температуре около 30°С. В установке используется свойство фреона изменять температуру кипения в зависимости от давления. Так, при давлении 7 -10 3 Па фреон кипит при 80°С.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2" name="PlaceHolder 2"/>
          <p:cNvSpPr>
            <a:spLocks noGrp="1"/>
          </p:cNvSpPr>
          <p:nvPr>
            <p:ph/>
          </p:nvPr>
        </p:nvSpPr>
        <p:spPr>
          <a:xfrm>
            <a:off x="4032000" y="1598760"/>
            <a:ext cx="3617640" cy="4497120"/>
          </a:xfrm>
          <a:prstGeom prst="rect">
            <a:avLst/>
          </a:prstGeom>
          <a:noFill/>
          <a:ln w="0">
            <a:noFill/>
          </a:ln>
        </p:spPr>
        <p:txBody>
          <a:bodyPr lIns="90000" rIns="90000" tIns="46800" bIns="46800" anchor="t">
            <a:normAutofit/>
          </a:bodyPr>
          <a:p>
            <a:pPr lvl="2" marL="1143000" indent="-228600">
              <a:spcBef>
                <a:spcPts val="300"/>
              </a:spcBef>
              <a:buSzPct val="144208"/>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1311"/>
                </a:solidFill>
                <a:latin typeface="Arial"/>
              </a:rPr>
              <a:t>Скосили траву, она через 2—3 дня стала сухой, и ее уже можно хранить в стогах. Разрезали на ломтики яблоко, вынесли на открытое место, и яблоко через некоторое время стало сухим. Здесь мы имеем дело с испарением воды. Сушка сельскохозяйственных продуктов происходит в основном за счет солнца и ветра. </a:t>
            </a:r>
            <a:endParaRPr b="0" lang="en-US" sz="1200" spc="-1" strike="noStrike">
              <a:solidFill>
                <a:srgbClr val="2f1311"/>
              </a:solidFill>
              <a:latin typeface="Arial"/>
            </a:endParaRPr>
          </a:p>
          <a:p>
            <a:pPr marL="343080" indent="-343080">
              <a:spcBef>
                <a:spcPts val="601"/>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Вы знаете, что скорость испарения зависит от температуры, площади испарения и от движения воздуха над испаряющейся жидкостью. Кроме того, нужно учесть, что во время испарения жидкости ее температура понижается</a:t>
            </a:r>
            <a:r>
              <a:rPr b="0" lang="ru-RU" sz="2400" spc="-1" strike="noStrike">
                <a:solidFill>
                  <a:srgbClr val="2f1311"/>
                </a:solidFill>
                <a:latin typeface="Arial"/>
              </a:rPr>
              <a:t>. </a:t>
            </a:r>
            <a:endParaRPr b="0" lang="en-US" sz="2400" spc="-1" strike="noStrike">
              <a:solidFill>
                <a:srgbClr val="2f1311"/>
              </a:solidFill>
              <a:latin typeface="Arial"/>
            </a:endParaRPr>
          </a:p>
        </p:txBody>
      </p:sp>
      <p:pic>
        <p:nvPicPr>
          <p:cNvPr id="203" name="" descr=""/>
          <p:cNvPicPr/>
          <p:nvPr/>
        </p:nvPicPr>
        <p:blipFill>
          <a:blip r:embed="rId3"/>
          <a:stretch/>
        </p:blipFill>
        <p:spPr>
          <a:xfrm>
            <a:off x="263520" y="2490840"/>
            <a:ext cx="3616200" cy="271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5" name="PlaceHolder 2"/>
          <p:cNvSpPr>
            <a:spLocks noGrp="1"/>
          </p:cNvSpPr>
          <p:nvPr>
            <p:ph/>
          </p:nvPr>
        </p:nvSpPr>
        <p:spPr>
          <a:xfrm>
            <a:off x="-397080" y="549000"/>
            <a:ext cx="8856360" cy="4522680"/>
          </a:xfrm>
          <a:prstGeom prst="rect">
            <a:avLst/>
          </a:prstGeom>
          <a:noFill/>
          <a:ln w="0">
            <a:noFill/>
          </a:ln>
        </p:spPr>
        <p:txBody>
          <a:bodyPr lIns="90000" rIns="90000" tIns="46800" bIns="46800" anchor="t">
            <a:normAutofit fontScale="85000"/>
          </a:bodyPr>
          <a:p>
            <a:pPr marL="291600" indent="-29160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А вот знаете ли вы, что: </a:t>
            </a:r>
            <a:endParaRPr b="0" lang="en-US" sz="1400" spc="-1" strike="noStrike">
              <a:solidFill>
                <a:srgbClr val="2f1311"/>
              </a:solidFill>
              <a:latin typeface="Arial"/>
            </a:endParaRPr>
          </a:p>
          <a:p>
            <a:pPr marL="291600" indent="-29160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 Растительный покров ускоряет испарение влаги из почвы, так как листья и стебли значительно увеличивают площадь испарения. Например, гектар овса испаряет за вегетационный период до 1600 т воды. </a:t>
            </a:r>
            <a:endParaRPr b="0" lang="en-US" sz="1400" spc="-1" strike="noStrike">
              <a:solidFill>
                <a:srgbClr val="2f1311"/>
              </a:solidFill>
              <a:latin typeface="Arial"/>
            </a:endParaRPr>
          </a:p>
          <a:p>
            <a:pPr marL="291600" indent="-29160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2. При неустойчивой погоде во время сенокоса траву сушат на вешалах, устраиваемых на вкопанных в землю столбах с рядом поперечных жердей. Наложенная на вешалах трава свободно продувается ветром и быстро сохнет. </a:t>
            </a:r>
            <a:endParaRPr b="0" lang="en-US" sz="1400" spc="-1" strike="noStrike">
              <a:solidFill>
                <a:srgbClr val="2f1311"/>
              </a:solidFill>
              <a:latin typeface="Arial"/>
            </a:endParaRPr>
          </a:p>
          <a:p>
            <a:pPr marL="291600" indent="-29160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3. При раздельной уборке хлебов осуществляются два процесса: </a:t>
            </a:r>
            <a:endParaRPr b="0" lang="en-US" sz="1400" spc="-1" strike="noStrike">
              <a:solidFill>
                <a:srgbClr val="2f1311"/>
              </a:solidFill>
              <a:latin typeface="Arial"/>
            </a:endParaRPr>
          </a:p>
          <a:p>
            <a:pPr marL="291600" indent="-29160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а) скашивание хлеба и просушивание его в валках в течение 2—3 дней; </a:t>
            </a:r>
            <a:endParaRPr b="0" lang="en-US" sz="1400" spc="-1" strike="noStrike">
              <a:solidFill>
                <a:srgbClr val="2f1311"/>
              </a:solidFill>
              <a:latin typeface="Arial"/>
            </a:endParaRPr>
          </a:p>
          <a:p>
            <a:pPr marL="291600" indent="-29160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б) подборка скошенного хлеба и обмолот его. </a:t>
            </a:r>
            <a:endParaRPr b="0" lang="en-US" sz="1400" spc="-1" strike="noStrike">
              <a:solidFill>
                <a:srgbClr val="2f1311"/>
              </a:solidFill>
              <a:latin typeface="Arial"/>
            </a:endParaRPr>
          </a:p>
          <a:p>
            <a:pPr marL="291600" indent="-29160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и таком способе уборки зерно получается сухим и вкусовые качества его повышаются. При непосредственной уборке хлебов комбайнами зерно часто бывает более сырое и требует дополнительной сушки на токах и в специальных сушилках. </a:t>
            </a:r>
            <a:endParaRPr b="0" lang="en-US" sz="1400" spc="-1" strike="noStrike">
              <a:solidFill>
                <a:srgbClr val="2f1311"/>
              </a:solidFill>
              <a:latin typeface="Arial"/>
            </a:endParaRPr>
          </a:p>
          <a:p>
            <a:pPr marL="291600" indent="-29160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4. В увлажненных местах раздельная уборка хлебов производится на более высоком срезе. В этом случае хлеб остается подвешенным на высокой стерне и хорошо проветривается. </a:t>
            </a:r>
            <a:endParaRPr b="0" lang="en-US" sz="1400" spc="-1" strike="noStrike">
              <a:solidFill>
                <a:srgbClr val="2f1311"/>
              </a:solidFill>
              <a:latin typeface="Arial"/>
            </a:endParaRPr>
          </a:p>
          <a:p>
            <a:pPr marL="291600" indent="-29160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5. Колхозные умельцы применяют для ворошения валков, попавших под дождь, секцию тракторных граблей, навешивая ее на маломощный трактор. За световой день валки просушиваются на площади до 100 га. Обмолачивать их можно через 2—2,5 ч. </a:t>
            </a:r>
            <a:endParaRPr b="0" lang="en-US" sz="1400" spc="-1" strike="noStrike">
              <a:solidFill>
                <a:srgbClr val="2f1311"/>
              </a:solidFill>
              <a:latin typeface="Arial"/>
            </a:endParaRPr>
          </a:p>
          <a:p>
            <a:pPr marL="291600" indent="-29160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6. Различные растения за вегетационный период испаряют неодинаковое количество воды. Например, один стебель кукурузы за лето испаряет более 150 л воды, одно растение подсолнуха 100—150 л, со всего пшеничного поля площадью 1 га испаряется за лето 300—400 т воды. Правильная и своевременная обработка почвы уменьшает испарение на 25—30%. На сколько же уменьшается испарение влаги из почвы при наличии полезащитных лесных полос? </a:t>
            </a:r>
            <a:endParaRPr b="0" lang="en-US" sz="1400" spc="-1" strike="noStrike">
              <a:solidFill>
                <a:srgbClr val="2f1311"/>
              </a:solidFill>
              <a:latin typeface="Arial"/>
            </a:endParaRPr>
          </a:p>
          <a:p>
            <a:pPr marL="291600" indent="-29160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7. Очень ответственное дело — хранение зерна. Если температура его увеличивается, тысячи тонн зерна могут погибнуть, поэтому систематически нужно наблюдать за температурой и влажностью зерна в хранилищах, особенно в период поступления нового урожая. Промышленность выпускает электронный влагомер, позволяющий быстро и точно определить влажность зерна в хранилищах. </a:t>
            </a:r>
            <a:endParaRPr b="0" lang="en-US" sz="1400" spc="-1" strike="noStrike">
              <a:solidFill>
                <a:srgbClr val="2f1311"/>
              </a:solidFill>
              <a:latin typeface="Arial"/>
            </a:endParaRPr>
          </a:p>
          <a:p>
            <a:pPr marL="291600" indent="-29160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Основными условиями сушки зерна в зерносушилках являются следующие: создание потока воздуха над поверхностью зерна, значительное повышение температуры зерна и движение его широким, но не толстым слоем.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Так, например, в зерноочистительно-сушильных комплектах КЗС-10Ш, КЗС-10-2Б, КЗС-20ША, КЗС-20Б температура семенного зерна доводится до 40 °С, продовольственного же до </a:t>
            </a: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60 °С. Влажность уменьшается при этом от 18—20% до 6—7%. </a:t>
            </a: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А умелое хранение картофеля и овощей — очень важная проблема. В настоящее время для регулирования микроклимата в овощехранилищах применяются приборы, которые дистанционно (с большого расстояния) измеряют и по заданной программе регулируют температуру и влажность воздуха в хранилищах, сигнализируют о местах загнивания продуктов. </a:t>
            </a:r>
            <a:endParaRPr b="0" lang="en-US" sz="1800" spc="-1" strike="noStrike">
              <a:solidFill>
                <a:srgbClr val="2f1311"/>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о время испарения температура испаряющейся жидкости понижается. Этим объясняете, го, что во время работы дождевальной установки становится заметно прохладнее.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Вопросы:</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Используя известные вам знания об испарении, попытайтесь сами разобраться в вопросах, взятых из области сельского хозяйства. </a:t>
            </a:r>
            <a:endParaRPr b="0" lang="en-US" sz="1400" spc="-1" strike="noStrike">
              <a:solidFill>
                <a:srgbClr val="2f1311"/>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 Почему в жаркий день скошенная трава высохнет быстрее, чем в холодный? </a:t>
            </a:r>
            <a:endParaRPr b="0" lang="en-US" sz="1400" spc="-1" strike="noStrike">
              <a:solidFill>
                <a:srgbClr val="2f1311"/>
              </a:solidFill>
              <a:latin typeface="Arial"/>
            </a:endParaRPr>
          </a:p>
          <a:p>
            <a:pPr marL="343080" indent="-3430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2. Почему зимой хвойные деревья испаряют влаги в 300—400 раз меньше, чем летом? </a:t>
            </a:r>
            <a:endParaRPr b="0" lang="en-US" sz="1400" spc="-1" strike="noStrike">
              <a:solidFill>
                <a:srgbClr val="2f1311"/>
              </a:solidFill>
              <a:latin typeface="Arial"/>
            </a:endParaRPr>
          </a:p>
          <a:p>
            <a:pPr marL="343080" indent="-3430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3. Почему сильная жара трудно переносится в болотистых местах? </a:t>
            </a:r>
            <a:endParaRPr b="0" lang="en-US" sz="1400" spc="-1" strike="noStrike">
              <a:solidFill>
                <a:srgbClr val="2f1311"/>
              </a:solidFill>
              <a:latin typeface="Arial"/>
            </a:endParaRPr>
          </a:p>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4. Почему после дождей или обильного полива приствольные круги плодовых деревьев мульчируют, т. е. покрывают слоем опилок, соломы или торфа? </a:t>
            </a:r>
            <a:endParaRPr b="0" lang="en-US" sz="1400" spc="-1" strike="noStrike">
              <a:solidFill>
                <a:srgbClr val="2f1311"/>
              </a:solidFill>
              <a:latin typeface="Arial"/>
            </a:endParaRPr>
          </a:p>
          <a:p>
            <a:pPr marL="343080" indent="-34308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5. Почему хвойные деревья испаряют влаги в 8—10 раз меньше, чем лиственные того же возраста и в то же время? </a:t>
            </a:r>
            <a:endParaRPr b="0" lang="en-US" sz="1400" spc="-1" strike="noStrike">
              <a:solidFill>
                <a:srgbClr val="2f1311"/>
              </a:solidFill>
              <a:latin typeface="Arial"/>
            </a:endParaRPr>
          </a:p>
          <a:p>
            <a:pPr marL="343080" indent="-34308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6. Если зерно, находившееся в валках, попадает под дождь, то его в ясный день переворачивают (ворошат) и расстилают более тонким слоем. Для чего? </a:t>
            </a:r>
            <a:endParaRPr b="0" lang="en-US" sz="1400" spc="-1" strike="noStrike">
              <a:solidFill>
                <a:srgbClr val="2f1311"/>
              </a:solidFill>
              <a:latin typeface="Arial"/>
            </a:endParaRPr>
          </a:p>
          <a:p>
            <a:pPr marL="343080" indent="-34308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7. Почему испарение с темных почв происходит быстрее, чем со светлых? С поверхностей более комковатых почв быстрее, чем с менее комковатых? В ветреную погоду быстрее, чем при’ тихой погоде? </a:t>
            </a:r>
            <a:endParaRPr b="0" lang="en-US" sz="1400" spc="-1" strike="noStrike">
              <a:solidFill>
                <a:srgbClr val="2f1311"/>
              </a:solidFill>
              <a:latin typeface="Arial"/>
            </a:endParaRPr>
          </a:p>
          <a:p>
            <a:pPr marL="343080" indent="-34308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8. Для чего фрукты и овощи, предназначенные для сушки,’ разрезают на мелкие ломтики, а дрова раскалывают? </a:t>
            </a:r>
            <a:endParaRPr b="0" lang="en-US" sz="1400" spc="-1" strike="noStrike">
              <a:solidFill>
                <a:srgbClr val="2f1311"/>
              </a:solidFill>
              <a:latin typeface="Arial"/>
            </a:endParaRPr>
          </a:p>
          <a:p>
            <a:pPr marL="343080" indent="-34308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9. Для чего при стоговании влажного сена в нижней части стога делается сквозной канал?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2T05:56:29Z</dcterms:created>
  <dc:creator>Холодова Анастасия</dc:creator>
  <dc:description/>
  <dc:language>en-US</dc:language>
  <cp:lastModifiedBy>Учитель</cp:lastModifiedBy>
  <dcterms:modified xsi:type="dcterms:W3CDTF">2013-12-12T06:21:39Z</dcterms:modified>
  <cp:revision>4</cp:revision>
  <dc:subject/>
  <dc:title>Физика в сельском хозяйстве</dc:title>
</cp:coreProperties>
</file>